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05F-0C9E-4CA6-9330-56B19AD2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14C-ECFB-448C-8BBF-69DE81A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92A-67F8-46AE-99C3-121E23E0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460-085E-42A6-A714-BFFA1456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8C3-5000-4E93-9B3E-C7555CE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27F-79DD-46AF-B53A-040D8EB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7C3-FA74-4513-BA5A-AC3B919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3C7-4177-4D77-9E77-7022594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840-2388-4E91-A97A-77D824B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757-4060-4503-8D06-558F1FE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CC9-574C-41FB-941A-A9B8A67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66B-CF92-4592-AB9C-E5157A3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73B-174F-4405-B785-029E502F47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500" spc="-1" strike="noStrike">
                <a:solidFill>
                  <a:srgbClr val="ffffff"/>
                </a:solidFill>
                <a:latin typeface="Arial"/>
                <a:cs typeface="????Boutros Rokaa"/>
              </a:rPr>
              <a:t>الوعد تحقق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الوعد تحقّق طفل زغ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جدّد قلب الختيار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قلبو في ندر كب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حمل للأرض بشاره</a:t>
            </a:r>
            <a:br>
              <a:rPr sz="82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مين يفرّحلي قل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هديّه سماويّ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نعمة حبَّك يا ربّ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طيتني أحلى هديّه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طفل زغيَّر بينا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جايي من بعدي يسوع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لى طريقو يه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ويمسح عن عينيك الدّمو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80360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08:25Z</dcterms:created>
  <dc:creator>Charbel Azar</dc:creator>
  <dc:description/>
  <dc:language>en-US</dc:language>
  <cp:lastModifiedBy>-</cp:lastModifiedBy>
  <dcterms:modified xsi:type="dcterms:W3CDTF">2003-01-15T09:00:24Z</dcterms:modified>
  <cp:revision>9</cp:revision>
  <dc:subject/>
  <dc:title>Slide 1</dc:title>
</cp:coreProperties>
</file>